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D161B-BE2D-4FB3-92E2-638B34DBC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742FE-D946-469E-8EBF-B401D6F0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24273-D850-4A6D-A59F-3EC7C4BD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00411-2DDF-4C14-AC1B-07FAC4647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AE85B-511F-4ACB-A0AA-2D53B21D6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FC498-6F29-47E7-9D66-DCB758C3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8493B-4537-4D73-9E2E-ECFFF61BE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671D6-7463-466E-AE88-B2BFEB59E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5496A-768C-424F-9698-CACE1680A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5410F-27F5-4F97-8E49-59CF19E2A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941DD-55E1-48A3-91DC-BF46D0A6F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24AC6-E954-4140-B63E-C2E7B205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0486F-1A24-4C5F-97E2-AAAB8F11E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2C48B-C9AF-4865-B410-3FFFF21CA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087A1-2410-4F49-B3E5-00BF3DC3B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820CB-4A32-4818-B90C-E487A22BA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D86EB-9DC6-4AF8-9EFD-6032572EA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F7AF21-F56D-404C-BDB8-C5195FAD65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5936A-2453-4129-AA60-3EF872E237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3E6FB-2CC8-45D6-BAFB-FE6E6A91B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6CC46-D801-4D9A-9F12-047569A00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3EAF5-7E84-45F7-B541-E8206DF21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A5270-2CF4-4662-94B3-3BA088E53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88BF6-D551-4DD5-BB08-F934170CA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E0382-BCC5-4360-A3F8-FA70E2593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909CE-8DB8-445B-AD85-5C17A0F6E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542F9-D21B-40DF-9314-3663853F8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0E66B-B7B0-4A03-ADA7-37C94C4F5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67A6A-28ED-4CBE-AB2A-2FE1949B9C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D4559-0377-4BA7-AF22-D65765C9EB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A5CD19-E90E-450A-8A6B-250D536338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7089F-8118-4E75-82D8-E7FD13895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2F350-4BD4-4EEF-9D66-8D2735DE3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84E9-89E2-41CB-8CE7-1FC813F33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69BC1-2F88-41DB-9DE5-BA04D8311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18AD9-7E4B-44E1-8BCE-5EBEDD1C5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8A0F6-0822-42C3-B93A-83B49722E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F4A33-6E58-4F81-837E-83EAE5653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798B7-E2CA-46AD-9395-17E109568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C1D2D-46A2-427E-B275-4C08246B9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C76B7-2713-4306-9C43-AA84BB5A7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B05DB-5ADB-4647-A7E7-710A037633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79DB74-9AE6-4922-9C52-6B70930860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598BEA-3FEA-4AD8-867B-4E592363F9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2A851-E74B-45E1-AFA0-709AC901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6EBCB-7BEA-469E-A59B-5A2DB3D5C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AB0B8-8BC9-4F04-9E30-5CF131127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505DC8-7CDC-484B-8C51-E5A9ECDD4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6BF9F-840E-4338-9A53-8CEF03901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07FDFD-CBDA-476E-913E-665ACDD42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03C8A-8D9A-4412-AD22-EB4951D48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61BDB-BFAA-4BDC-BBFD-15DBE0A75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CD49E-9092-4523-BBE3-C4B5208F8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A22E8-9F75-48AB-822B-05D84DD05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4C0CF0-FED6-4376-87C2-990CC71C9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0D563-3292-41BF-8902-E21CACFE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AAB3D-1481-45F3-8A7B-59754A205F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53A002-D19B-4AC1-A3C7-B537BB11A9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4D0DE-4F36-4C48-BC7F-CCE4AD3753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E8513E-829E-4A19-9A58-65A1D472FB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C5E20-9147-4E3F-858D-19A80236B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EC5E2-3606-4C55-B52E-D13F52D08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7B82E9-98BE-4871-AF1F-C1C488566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FB38E-19FF-47F7-ACBC-5E35A7F85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FCB63-DDD8-4309-8D63-A2136C869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E253B-574A-49EC-A3BE-DB1920C15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8481-718F-4E71-A309-F565FEF4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8D252-F381-431F-ADC2-E63A340942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0A2821-BB81-4E8D-BFA0-83519771D0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CAD24-60D4-4E96-BB3C-BB7FF545EE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B89F21-5F02-49EC-9D01-5FC43C4F4B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E9FC5E-1C3B-4A60-908E-CB60DF183F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948F80-2EA0-452C-97BF-6EFFE0722F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2FA8FB-C9FA-417E-BD4E-B5B1D73AE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17BB5-AFDB-41F5-9089-730FAEBF8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576522-754F-4171-B136-11B333077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4E023-0460-47EB-A5C8-CC5B6C829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228E-7CF5-4E8A-880A-15A46055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046FC-FC20-4122-85FE-6393203B8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C20C3-A743-4E42-B233-BA132644F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31B28-20C6-422D-96C0-182F76E97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4A8D24-A8C1-4C25-BE4F-6AFA0732EF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3511A0-7BEA-4870-80CE-80F2931FAD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62A9-7745-4FCD-9F31-F01A41A1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00E4-011A-409F-8713-6D0226295F3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2A33-C7BA-490F-84F6-1A97D632F3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DEB5-7149-4B25-AFE9-7DFC52B943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C30B-F3A2-4312-8219-5A8D9FD183E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586B-78D0-42FC-BBE3-D6D9609E4B2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C2AC-1EA9-4FE4-AC99-2C8EE7F9E87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9FED-A7B7-487F-848F-3362FA7A55C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om Whitne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Josh Muckerje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xi Ram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ressure of a gas is a measure of the force exerted by the gas molecules colliding against the sides of its contain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pace inside of a container with no pressure is called a </a:t>
            </a:r>
            <a:r>
              <a:rPr b="1" lang="en-US" sz="3200" spc="-1" strike="noStrike" u="sng">
                <a:solidFill>
                  <a:srgbClr val="000000"/>
                </a:solidFill>
                <a:uFillTx/>
                <a:latin typeface="Corbel"/>
              </a:rPr>
              <a:t>vacuum</a:t>
            </a:r>
            <a:r>
              <a:rPr b="0" lang="en-US" sz="3200" spc="-1" strike="noStrike">
                <a:solidFill>
                  <a:srgbClr val="000000"/>
                </a:solidFill>
                <a:latin typeface="Corbel"/>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barometer measures the atmospheric pressure using mercur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ressure pushes the outside mercury down and the mercury in the graduated cylinder up.</a:t>
            </a:r>
            <a:endParaRPr b="0" lang="en-US" sz="3200" spc="-1" strike="noStrike">
              <a:solidFill>
                <a:srgbClr val="000000"/>
              </a:solidFill>
              <a:latin typeface="Corbel"/>
            </a:endParaRPr>
          </a:p>
        </p:txBody>
      </p:sp>
      <p:pic>
        <p:nvPicPr>
          <p:cNvPr id="309" name="Picture 2" descr="http://www.barometerplanet.com/wp-content/uploads/2009/09/merc_barometer.jpg"/>
          <p:cNvPicPr/>
          <p:nvPr/>
        </p:nvPicPr>
        <p:blipFill>
          <a:blip r:embed="rId2"/>
          <a:stretch/>
        </p:blipFill>
        <p:spPr>
          <a:xfrm>
            <a:off x="3429000" y="3886200"/>
            <a:ext cx="2762280" cy="273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52280"/>
            <a:ext cx="850428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at the same temperature, all substances, regardless of physical state, have the same kinetic energ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mperature and energy have a direct correlation: when one goes up, the other does to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low temperature substances, the majority of molecules have an intermediate energy, with few with a high or low energ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igh temperature substances have a higher median temperature than low temperature substanc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elvin was created to easily show the energy relationships in two substance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elvin temperature in two atoms are  directly proportional to the amount of energy in the atom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Absolute zero” is defined as 0 Kelvin, the temperature where particles have zero kinetic energy or motion, and is therefore the lowest possible temperatur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5. Yes. Pressure is the molecules moving around and hitting the sides of a container. The pressure only decreases in an open container, because the atmosphere is a container.</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6. The Atmospheric pressure exerts force on the mercury, which raises the contained mercury.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7. Temperature is created by the movement of atoms. The movement of atoms is created by the absorbtion of kinetic energy. The distribution curve shows that lots of molecules with low energy make a substance cold. Also, as the average energy raises, so does the temperature.</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8. Kelvin is used because it is directly </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proportional to the energy in a </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substance. Also, 0K is absolute zero </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no energy).</a:t>
            </a:r>
            <a:endParaRPr b="0" lang="en-US" sz="2800" spc="-1" strike="noStrike">
              <a:solidFill>
                <a:srgbClr val="000000"/>
              </a:solidFill>
              <a:latin typeface="Corbel"/>
            </a:endParaRPr>
          </a:p>
        </p:txBody>
      </p:sp>
      <p:pic>
        <p:nvPicPr>
          <p:cNvPr id="320" name="Picture 2" descr="http://www.barometerplanet.com/wp-content/uploads/2009/09/merc_barometer.jpg"/>
          <p:cNvPicPr/>
          <p:nvPr/>
        </p:nvPicPr>
        <p:blipFill>
          <a:blip r:embed="rId2"/>
          <a:stretch/>
        </p:blipFill>
        <p:spPr>
          <a:xfrm>
            <a:off x="6381720" y="4124160"/>
            <a:ext cx="2762280" cy="273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7:56:57Z</dcterms:created>
  <dc:creator>14soconnell</dc:creator>
  <dc:description/>
  <dc:language>en-US</dc:language>
  <cp:lastModifiedBy>udsd</cp:lastModifiedBy>
  <dcterms:modified xsi:type="dcterms:W3CDTF">2012-04-26T18:21:34Z</dcterms:modified>
  <cp:revision>19</cp:revision>
  <dc:subject/>
  <dc:title>Section 2 (pg. 386-389)</dc:title>
</cp:coreProperties>
</file>